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481-5602-4FA6-AF33-C34267E5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5CC-2D2F-4515-A3B1-5BCCBC09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265-96A1-4ABB-B76D-749C8D3B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196-6366-45C7-872A-B640229F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446-1F9E-4ADB-B39E-FCAC21D5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CB5-2956-4A61-820C-4DDF53E6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4B5-74A3-4F48-994A-AA21537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0F0-F470-4297-BEE1-7265F941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DF1-6454-4EBB-B9C2-DFE05904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360-2B67-4331-928D-69498892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271-18D5-4819-9049-595645B3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EB0-EE8F-47FC-AAA4-5B0B7A6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5231-D427-4032-86F3-9E6994904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hangingminds.org/explanations/sift/sense.htm" TargetMode="External"/><Relationship Id="rId2" Type="http://schemas.openxmlformats.org/officeDocument/2006/relationships/hyperlink" Target="http://ezinearticles.com/?Write-Better---Brain-Activity-and-the-Five-Senses&amp;id=4005868" TargetMode="External"/><Relationship Id="rId3" Type="http://schemas.openxmlformats.org/officeDocument/2006/relationships/hyperlink" Target="http://www.factmonster.com/ipka/A0932466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ble Miracle: Background Information on Being Blind Effecting Other Se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ethany Anderson and Sierra E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Your Brain Functions With Your Sens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ut most of our focus on what we see, so it dominates the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our senses would go vision, hearing, then touch, taste, and smell are significant in specific circumstances, so they are pretty much tied for l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ream of input into our brains is guided by our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ttention turns our head, moves our bodies, as well as being able to create narrow, or broad fo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ight Dominates Other Sens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ht is our usual primary sense because we get most of our useful information from s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more to concentrate on sight than other senses because of the spectrum and intensity, this is why our brain focuses mainly works with s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ht helps us to gain most of our knowledge, and the brains functions with that more because of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Dominate Senses Chan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dominate sense of sight changes when you lose your vision and becom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imes when your eating, you sense of smell and taste become your dominate s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become blind you sense of feel, and hearing become very k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ing is important for blind people because it’s one way they can tell where they are, and what’s going on around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s That Work With These Sens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sense- You should know what organs cooperate with your 5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eyes give you sight; be careful with your eyes because that is your main sense, and it’s easy to becom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nose gives you your sense of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hands, feet, and entire body allow you to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ongue, and taste buds allow you to taste hence their name taste b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ears allow you to hear… Told you common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hangingminds.org/explanations/sift/sense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zinearticles.com/?Write-Better---Brain-Activity-and-the-Five-Senses&amp;id=40058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ctmonster.com/ipka/A0932466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6:25:34Z</dcterms:created>
  <dc:creator>USD376</dc:creator>
  <dc:description/>
  <dc:language>en-US</dc:language>
  <cp:lastModifiedBy>USD376</cp:lastModifiedBy>
  <dcterms:modified xsi:type="dcterms:W3CDTF">2012-05-22T16:14:29Z</dcterms:modified>
  <cp:revision>6</cp:revision>
  <dc:subject/>
  <dc:title>Sensible Miracle: Background Information on Being Blind Effecting Other Senses</dc:title>
</cp:coreProperties>
</file>